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6BC-2167-49AA-B15D-432C17FC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overview- Sweden new school goals not being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udent taking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howing empathy and care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gin to speak ab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mentary programs that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verall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program not from Cfchildr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y goal- help implement and stand aside- counselor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Keep high profile-Wrote letters to parents, etc. Had headmaster sig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wly updated material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of implementation- 1-2 day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comradery among peacemakers ( hat, t-shirt, away from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onfli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tudents understand that conflict is neutral- it’s what we do with it that can lead to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listening vs h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body language-wife the diplomat study that as part of human relations training 80%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it visible by dealing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sibl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teacher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econd Step and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anti bully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grade- playground diplo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th grade- receive referral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munity service- 2nd Ste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classroom- 6,7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e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y/gir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nflicts (school vs social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mpathy- new stud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ac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playground/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sible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rules/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greed to 85% sol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- both parties must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understanding of problem sometimes reve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ant to solve problem- suggest ideas that can be agre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friends it’s solved, often sides are made and the conflict exp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grade abbreviated for play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bout how we listen to someone actively and with respect and communicate clearly an with re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empathic is the key to the prevention of becoming a bully. If you understand how someone else might feel, you will not bully that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E54-462A-4AFB-8C8D-662346CA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2D0-FFA1-4EE6-992D-E4ECD225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9D3-7BDC-4D5A-B59E-15B76C9F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68B-336A-494A-A9DF-2CCB5A41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D24-15DE-43F1-B451-1CCC99F7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2ECD-A6DD-43AB-AB98-CD0EAE6F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76C0-8FB4-47A1-B05A-9744A5EC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C668-727F-4832-9D06-4D47975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BC8-B70E-4969-9FA6-E95DA83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7F3-47C5-43C0-B9BD-3C744662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3C31-7171-44B6-811B-71F57AFD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569-707C-4C3C-99D1-48CD71F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2B4-9AB7-4884-ADB1-48690E4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D44-49EA-452C-9151-4B84D56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43A3-2F42-4125-AFC0-50C1795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41D-EF76-40DA-A66F-5D3375FA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8AAD-D21B-4D5D-9BAF-2401DADC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E7D-FB1C-4D69-A807-F34E2B36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141-DD22-4C1C-96AF-F50B5E7D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F41-E648-42B8-8439-B7827D1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5B5-5503-436C-8574-5ABAF47D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E8D-F86F-46C5-B53F-1A4EFD6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602-9A1F-4C94-BCD5-E916A77C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510-D266-4EAC-923F-FE0198F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322B-843E-4D69-B09E-BDB6DABD5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8EB-5149-47BD-A80C-21884DEB8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hyperlink" Target="mailto:aevidon@isl.edu.lv" TargetMode="External"/><Relationship Id="rId4" Type="http://schemas.openxmlformats.org/officeDocument/2006/relationships/hyperlink" Target="mailto:aevidon@isl.edu.lv" TargetMode="External"/><Relationship Id="rId5" Type="http://schemas.openxmlformats.org/officeDocument/2006/relationships/hyperlink" Target="mailto:aevidon@isl.edu.lv" TargetMode="External"/><Relationship Id="rId6" Type="http://schemas.openxmlformats.org/officeDocument/2006/relationships/hyperlink" Target="mailto:aevidon@isl.edu.lv" TargetMode="External"/><Relationship Id="rId7" Type="http://schemas.openxmlformats.org/officeDocument/2006/relationships/hyperlink" Target="mailto:aevidon@isl.edu.lv" TargetMode="External"/><Relationship Id="rId8" Type="http://schemas.openxmlformats.org/officeDocument/2006/relationships/slideLayout" Target="../slideLayouts/slideLayout14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76720" y="0"/>
            <a:ext cx="4352760" cy="37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eer Mediation-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tudents helping student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1333000">
            <a:off x="2268000" y="3573360"/>
            <a:ext cx="2422800" cy="302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2880" y="4495320"/>
            <a:ext cx="3530880" cy="1676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aevidon@isl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edu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lv</a:t>
            </a:r>
            <a:br>
              <a:rPr sz="2800"/>
            </a:br>
            <a:br>
              <a:rPr sz="2800"/>
            </a:b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artevidon@yahoo.com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How is second step taught? </a:t>
            </a:r>
            <a:br>
              <a:rPr sz="3600"/>
            </a:b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Elementary School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he 11” x 17” photo lesson cards form the core of the program for Preschool—Grade 5 curricul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. Empathy Trai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I. Impulse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ll. Emotion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V Problem Solv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19810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What elementary program looks like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. for teac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to tea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on 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m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y and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tend and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ap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w lesson cards- practice l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9810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Middle School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Second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Step,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MiddleSchool/Junior High lessons are found in grade level binders and are divided into five uni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. Empathy and Commun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I. Bullying Preven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ll. Emotion Manag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V. Problem Solving, decision making and goal set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V. Substance abuse preven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S program looks lik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ory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bjectives, Lesson at a glance, supplies and equipment needed, lesson materials, lesson preparation, teaching notes, daily application of content, importance of lesson, lesson ou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son scri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ies/role pl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VD/video usage modeling and supporting topics of conc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y worksheets/home exten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ffffff"/>
                </a:solidFill>
                <a:latin typeface="Times New Roman"/>
              </a:rPr>
              <a:t>gr. 8 lesson 6( Bullying Prevention: Labels, Stereotypes, Prejudice) d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rogram Responsibilities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people leave)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Build into school plan or position-  e.g. couns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Make high 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Make 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Make visible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ssemblies, poster display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00800" y="2835360"/>
            <a:ext cx="17524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ke it Visibl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mb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er displays- empathy, anger management, peer pressur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er Mediation program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classro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Second Step to other classrooms via medi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come familiar with website- cfchildren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ank you for watching!!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2418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eer Mediation- </a:t>
            </a:r>
            <a:br>
              <a:rPr sz="3600"/>
            </a:br>
            <a:r>
              <a:rPr b="0" i="1" lang="sv-SE" sz="3600" spc="-1" strike="noStrike">
                <a:solidFill>
                  <a:srgbClr val="ffffff"/>
                </a:solidFill>
                <a:latin typeface="Times New Roman"/>
              </a:rPr>
              <a:t>Students helping students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So many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Ease of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Builds comradery within group/emp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Provides communication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Students in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Let’s be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1040" y="3352680"/>
            <a:ext cx="1444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eer Mediation- 2 componen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685440"/>
            <a:ext cx="7162920" cy="6172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st compon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Stud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confli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inst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/w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s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be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 body language good/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of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good re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7432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2nd compone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learn  mediation proc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 students in conflict to solve their ow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/MS/HS grad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24400" y="3809880"/>
            <a:ext cx="134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716292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eer Mediation Process MS disc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6934320" cy="5943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) Introd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) Ground Rules/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) Define problem/find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) Finding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)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23080" y="327672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7162920" cy="3809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24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sv-SE" sz="2800" spc="-1" strike="noStrike">
                <a:solidFill>
                  <a:srgbClr val="ffffff"/>
                </a:solidFill>
                <a:latin typeface="Times New Roman"/>
              </a:rPr>
              <a:t>Second Step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i="1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designed to help children learn pro social skills and reduce impulsive- aggressive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40 years of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nternational use/trans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Exempla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o reach this end, the curricula are built upon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0"/>
            <a:ext cx="426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Step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arning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artevidon@yaho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1. To increase children’s ability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dentify others’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ake others’ perspectiv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respond empathically to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Mar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91200" y="3886200"/>
            <a:ext cx="1279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Impulse control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2. To decrease impulsive and aggressive behavior in children throug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pplying a problem-solving strate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o social situ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practicing behavioral socia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34360" y="4267080"/>
            <a:ext cx="111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Emotion Manageme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3. To decrease angry behavior in children throug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recognizing angry feel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using anger-reduction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3968640"/>
            <a:ext cx="144756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8:08:18Z</dcterms:created>
  <dc:creator>Art  Evidon</dc:creator>
  <dc:description/>
  <dc:language>en-US</dc:language>
  <cp:lastModifiedBy>Art  Evidon</cp:lastModifiedBy>
  <dcterms:modified xsi:type="dcterms:W3CDTF">2011-05-02T18:15:15Z</dcterms:modified>
  <cp:revision>15</cp:revision>
  <dc:subject/>
  <dc:title> aevidon@isl.edu.lv   </dc:title>
</cp:coreProperties>
</file>